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28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3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C4CE-5784-402C-904C-FF75E7C1B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E471-3E88-41B0-9ADB-E9CAD7C2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9052-6DB9-4619-9984-C3E541AB2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564C-5CF4-47ED-9F69-2F329D375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F938-B12F-4582-A9DC-80880F5D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776E-3D22-4DF5-BF09-57A2B2BB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5B3C-7463-4A12-A266-2858727A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9992-5217-4111-9436-C85AC0F2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F074-2C23-4BD9-B817-DAE2194B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E69A-7C6E-4B9C-A067-41F0B1A8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7F00-7B42-40DE-8198-35721796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71F4-6479-4F03-9DE2-3CD8143B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AD81-DDBA-4595-B786-60D1C6F32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fornian FB"/>
              </a:rPr>
              <a:t>Craft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Vermei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46120" y="1600200"/>
            <a:ext cx="8051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fornian FB"/>
              </a:rPr>
              <a:t>Art ID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fornian FB"/>
              </a:rPr>
              <a:t>The Shah Jahan Cup</a:t>
            </a:r>
            <a:r>
              <a:rPr b="1" lang="en-US" sz="3600" spc="-1" strike="noStrike">
                <a:solidFill>
                  <a:srgbClr val="000000"/>
                </a:solidFill>
                <a:latin typeface="Californian FB"/>
              </a:rPr>
              <a:t>, Mughal Empire, 17th Centu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914400" y="2286000"/>
            <a:ext cx="3397320" cy="2436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800600" y="2286000"/>
            <a:ext cx="34290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fornian FB"/>
              </a:rPr>
              <a:t>Unicorn in Captivity</a:t>
            </a:r>
            <a:r>
              <a:rPr b="1" lang="en-US" sz="3600" spc="-1" strike="noStrike">
                <a:solidFill>
                  <a:srgbClr val="000000"/>
                </a:solidFill>
                <a:latin typeface="Californian FB"/>
              </a:rPr>
              <a:t>, from </a:t>
            </a:r>
            <a:r>
              <a:rPr b="1" i="1" lang="en-US" sz="3600" spc="-1" strike="noStrike">
                <a:solidFill>
                  <a:srgbClr val="000000"/>
                </a:solidFill>
                <a:latin typeface="Californian FB"/>
              </a:rPr>
              <a:t>The Hunt of the Unicorn</a:t>
            </a:r>
            <a:r>
              <a:rPr b="1" lang="en-US" sz="3600" spc="-1" strike="noStrike">
                <a:solidFill>
                  <a:srgbClr val="000000"/>
                </a:solidFill>
                <a:latin typeface="Californian FB"/>
              </a:rPr>
              <a:t>, Medieval, c.150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789280" y="1600200"/>
            <a:ext cx="3565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Other Sce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257800" y="2328840"/>
            <a:ext cx="2828880" cy="2514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33520" y="2057400"/>
            <a:ext cx="347652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fornian FB"/>
              </a:rPr>
              <a:t>Lid of the Limburg Staurotheca</a:t>
            </a:r>
            <a:r>
              <a:rPr b="1" lang="en-US" sz="3600" spc="-1" strike="noStrike">
                <a:solidFill>
                  <a:srgbClr val="000000"/>
                </a:solidFill>
                <a:latin typeface="Californian FB"/>
              </a:rPr>
              <a:t>, Byzantine, 968-8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124080" y="1523880"/>
            <a:ext cx="2889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fornian FB"/>
              </a:rPr>
              <a:t>Chicago, </a:t>
            </a:r>
            <a:r>
              <a:rPr b="1" i="1" lang="en-US" sz="3600" spc="-1" strike="noStrike">
                <a:solidFill>
                  <a:srgbClr val="000000"/>
                </a:solidFill>
                <a:latin typeface="Californian FB"/>
              </a:rPr>
              <a:t>The Dinner Party</a:t>
            </a:r>
            <a:r>
              <a:rPr b="1" lang="en-US" sz="3600" spc="-1" strike="noStrike">
                <a:solidFill>
                  <a:srgbClr val="000000"/>
                </a:solidFill>
                <a:latin typeface="Californian FB"/>
              </a:rPr>
              <a:t>, Feminist Art, 1979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019240" y="1676520"/>
            <a:ext cx="483876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Place Set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57200" y="1849320"/>
            <a:ext cx="4038480" cy="4027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105520" y="1828800"/>
            <a:ext cx="315576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67652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fornian FB"/>
              </a:rPr>
              <a:t>Critical Thinking Questio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Working with G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195560" y="2505240"/>
            <a:ext cx="2562120" cy="2714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533920" y="2505240"/>
            <a:ext cx="226692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Cera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038240" y="1957320"/>
            <a:ext cx="2876400" cy="3810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334120" y="2367000"/>
            <a:ext cx="27954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Meta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460520" y="1778040"/>
            <a:ext cx="2030400" cy="4170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105520" y="2071800"/>
            <a:ext cx="2690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Islamic Text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523880" y="1957320"/>
            <a:ext cx="6096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United States Text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66680" y="2781360"/>
            <a:ext cx="2846520" cy="1871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638680" y="2730600"/>
            <a:ext cx="19717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fornian FB"/>
              </a:rPr>
              <a:t>Dinner Pa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" y="1893960"/>
            <a:ext cx="4038480" cy="3936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334120" y="1905120"/>
            <a:ext cx="307656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We are creating our own dinner par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Create a place setting for someone else in class that reflects their interests, personality, and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Porcel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368360" y="2754360"/>
            <a:ext cx="2216160" cy="2216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875200" y="2881440"/>
            <a:ext cx="15843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Gla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1680" y="2585880"/>
            <a:ext cx="3809880" cy="2552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295960" y="2725560"/>
            <a:ext cx="274320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For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91120" y="2209680"/>
            <a:ext cx="3949560" cy="3098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219320" y="2235240"/>
            <a:ext cx="20318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Intar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952880" y="1523880"/>
            <a:ext cx="2590920" cy="4686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33520" y="2246400"/>
            <a:ext cx="37335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Tape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066680" y="2743200"/>
            <a:ext cx="2756160" cy="1866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648320" y="2057400"/>
            <a:ext cx="378432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Cloisonn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62120" y="1995480"/>
            <a:ext cx="3429000" cy="3733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289480" y="1881360"/>
            <a:ext cx="27558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Repous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066680" y="2214720"/>
            <a:ext cx="2971800" cy="2287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815000" y="2057400"/>
            <a:ext cx="370512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21:53:11Z</dcterms:created>
  <dc:creator>Sheila Levi-Aland</dc:creator>
  <dc:description/>
  <dc:language>en-US</dc:language>
  <cp:lastModifiedBy>Sheila</cp:lastModifiedBy>
  <dcterms:modified xsi:type="dcterms:W3CDTF">2005-05-25T19:47:35Z</dcterms:modified>
  <cp:revision>13</cp:revision>
  <dc:subject/>
  <dc:title>Crafts</dc:title>
</cp:coreProperties>
</file>